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move the slid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F376-B2E2-4EDB-974A-0D63B911DA2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0797-2BC2-4A1C-9900-5C8D87E776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927E-F036-4DA3-818E-4DB81CA1F2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25F1-12CD-4E22-8E55-8AA393BC17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9F4F-BB42-41FD-9C78-35CE131FBF1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1C1D-3D62-426E-807D-3D9AA85711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F41C-088F-4E41-BDEC-183CA47B7F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F8F9-05F1-456C-9966-8EBD1EE196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B406-DD6B-49EF-AA13-4D38BFC975B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4773-88AE-48B1-BD07-7264466F18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5171-2407-49B5-8626-DCDCCFE44D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E289-D239-4A8F-97D0-72E424C981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3394-6DB1-45F3-9758-821F111BA0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911F-45A3-495F-83B7-6CC5561AEB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72A9-D114-489C-B140-69E2169FF8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748D-D542-4EB6-BC51-630B47E2F0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2DBA-92F9-4B6D-A9CD-8D1D7D1FF10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70B6-0663-4A0D-8927-1834BE90E8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Credits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AutoShape 13">
            <a:hlinkClick r:id="" action="ppaction://hlinkshowjump?jump=firstslide"/>
          </p:cNvPr>
          <p:cNvSpPr/>
          <p:nvPr/>
        </p:nvSpPr>
        <p:spPr>
          <a:xfrm>
            <a:off x="765648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14">
            <a:hlinkClick r:id="" action="ppaction://hlinkshowjump?jump=nextslide"/>
          </p:cNvPr>
          <p:cNvSpPr/>
          <p:nvPr/>
        </p:nvSpPr>
        <p:spPr>
          <a:xfrm>
            <a:off x="688176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AutoShape 15">
            <a:hlinkClick r:id="" action="ppaction://hlinkshowjump?jump=endshow"/>
          </p:cNvPr>
          <p:cNvSpPr/>
          <p:nvPr/>
        </p:nvSpPr>
        <p:spPr>
          <a:xfrm>
            <a:off x="8344080" y="6019920"/>
            <a:ext cx="533160" cy="8380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45">
                <a:moveTo>
                  <a:pt x="0" y="0"/>
                </a:moveTo>
                <a:lnTo>
                  <a:pt x="21600" y="0"/>
                </a:lnTo>
                <a:lnTo>
                  <a:pt x="21600" y="33945"/>
                </a:lnTo>
                <a:lnTo>
                  <a:pt x="0" y="33945"/>
                </a:lnTo>
                <a:close/>
              </a:path>
              <a:path fill="lightenLess" w="21600" h="339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45">
                <a:moveTo>
                  <a:pt x="21600" y="0"/>
                </a:moveTo>
                <a:lnTo>
                  <a:pt x="21600" y="33945"/>
                </a:lnTo>
                <a:lnTo>
                  <a:pt x="20200" y="32545"/>
                </a:lnTo>
                <a:lnTo>
                  <a:pt x="20200" y="1400"/>
                </a:lnTo>
                <a:close/>
              </a:path>
              <a:path fill="darkenLess" w="21600" h="33945">
                <a:moveTo>
                  <a:pt x="21600" y="33945"/>
                </a:moveTo>
                <a:lnTo>
                  <a:pt x="0" y="33945"/>
                </a:lnTo>
                <a:lnTo>
                  <a:pt x="1400" y="32545"/>
                </a:lnTo>
                <a:lnTo>
                  <a:pt x="20200" y="32545"/>
                </a:lnTo>
                <a:close/>
              </a:path>
              <a:path fill="lighten" w="21600" h="33945">
                <a:moveTo>
                  <a:pt x="0" y="33945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4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AutoShape 16">
            <a:hlinkClick r:id="" action="ppaction://hlinkshowjump?jump=previousslide"/>
          </p:cNvPr>
          <p:cNvSpPr/>
          <p:nvPr/>
        </p:nvSpPr>
        <p:spPr>
          <a:xfrm>
            <a:off x="6172200" y="6032520"/>
            <a:ext cx="673200" cy="825480"/>
          </a:xfrm>
          <a:custGeom>
            <a:avLst/>
            <a:gdLst>
              <a:gd name="textAreaLeft" fmla="*/ 43560 w 673200"/>
              <a:gd name="textAreaRight" fmla="*/ 629640 w 673200"/>
              <a:gd name="textAreaTop" fmla="*/ 43560 h 825480"/>
              <a:gd name="textAreaBottom" fmla="*/ 781920 h 825480"/>
            </a:gdLst>
            <a:ahLst/>
            <a:rect l="textAreaLeft" t="textAreaTop" r="textAreaRight" b="textAreaBottom"/>
            <a:pathLst>
              <a:path w="21600" h="26483">
                <a:moveTo>
                  <a:pt x="0" y="0"/>
                </a:moveTo>
                <a:lnTo>
                  <a:pt x="21600" y="0"/>
                </a:lnTo>
                <a:lnTo>
                  <a:pt x="21600" y="26483"/>
                </a:lnTo>
                <a:lnTo>
                  <a:pt x="0" y="26483"/>
                </a:lnTo>
                <a:close/>
              </a:path>
              <a:path fill="lightenLess" w="21600" h="264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83">
                <a:moveTo>
                  <a:pt x="21600" y="0"/>
                </a:moveTo>
                <a:lnTo>
                  <a:pt x="21600" y="26483"/>
                </a:lnTo>
                <a:lnTo>
                  <a:pt x="20200" y="25083"/>
                </a:lnTo>
                <a:lnTo>
                  <a:pt x="20200" y="1400"/>
                </a:lnTo>
                <a:close/>
              </a:path>
              <a:path fill="darkenLess" w="21600" h="26483">
                <a:moveTo>
                  <a:pt x="21600" y="26483"/>
                </a:moveTo>
                <a:lnTo>
                  <a:pt x="0" y="26483"/>
                </a:lnTo>
                <a:lnTo>
                  <a:pt x="1400" y="25083"/>
                </a:lnTo>
                <a:lnTo>
                  <a:pt x="20200" y="25083"/>
                </a:lnTo>
                <a:close/>
              </a:path>
              <a:path fill="lighten" w="21600" h="26483">
                <a:moveTo>
                  <a:pt x="0" y="264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8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17">
            <a:hlinkClick r:id="rId3"/>
          </p:cNvPr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7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0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Workshop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39880" y="1754280"/>
            <a:ext cx="777060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Assign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Prewriti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Choose an Issu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5" action="ppaction://hlinksldjump"/>
              </a:rPr>
              <a:t>State Your Posi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6" action="ppaction://hlinksldjump"/>
              </a:rPr>
              <a:t>Consider Your Purpose and Audienc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7" action="ppaction://hlinksldjump"/>
              </a:rPr>
              <a:t>Support Your Opin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8" action="ppaction://hlinksldjump"/>
              </a:rPr>
              <a:t>Organize Your Essa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9" action="ppaction://hlinksldjump"/>
              </a:rPr>
              <a:t>Practice and Appl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AutoShape 6">
            <a:hlinkClick r:id="" action="ppaction://hlinkshowjump?jump=endshow"/>
          </p:cNvPr>
          <p:cNvSpPr/>
          <p:nvPr/>
        </p:nvSpPr>
        <p:spPr>
          <a:xfrm>
            <a:off x="7543800" y="594360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AutoShape 7">
            <a:hlinkClick r:id="" action="ppaction://hlinkshowjump?jump=endshow"/>
          </p:cNvPr>
          <p:cNvSpPr/>
          <p:nvPr/>
        </p:nvSpPr>
        <p:spPr>
          <a:xfrm>
            <a:off x="6095880" y="594360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33520" y="1371600"/>
            <a:ext cx="22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Feature Menu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Support Your Opinio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28480" y="1370160"/>
            <a:ext cx="79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reate a chart listing your reasons and evidenc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8318520" y="1633680"/>
            <a:ext cx="133200" cy="8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533520" y="2050920"/>
          <a:ext cx="8076960" cy="3475080"/>
        </p:xfrm>
        <a:graphic>
          <a:graphicData uri="http://schemas.openxmlformats.org/drawingml/2006/table">
            <a:tbl>
              <a:tblPr/>
              <a:tblGrid>
                <a:gridCol w="4038480"/>
                <a:gridCol w="4038480"/>
              </a:tblGrid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1371600" indent="-1371600">
                        <a:spcBef>
                          <a:spcPts val="49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Opinion:</a:t>
                      </a: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  Software for sharing personal files across the internet should remain legal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Reason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Eviden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</a:tr>
              <a:tr h="23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Although file-sharing software is sometimes used to illegally share copyrighted music, it also has many legal, practical uses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Fact:</a:t>
                      </a: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 People use file-sharing software to share photos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Analogy:</a:t>
                      </a: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 Making file-sharing software illegal would be like outlawing baseball bats because they might be used as weapons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05" name="Text Box 39"/>
          <p:cNvSpPr/>
          <p:nvPr/>
        </p:nvSpPr>
        <p:spPr>
          <a:xfrm>
            <a:off x="6553080" y="5653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Organize Your Essay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28480" y="137484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rrange your reasons in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order of importance.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28480" y="2503440"/>
            <a:ext cx="3679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Grab the audience’s attention immediatel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28480" y="4478400"/>
            <a:ext cx="3684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Leave a powerful last impressio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8167680" y="161604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11" name="Line 13"/>
          <p:cNvSpPr/>
          <p:nvPr/>
        </p:nvSpPr>
        <p:spPr>
          <a:xfrm>
            <a:off x="4371840" y="2381400"/>
            <a:ext cx="1067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5502240" y="2498760"/>
            <a:ext cx="31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Begin with the strongest reaso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5502240" y="4484520"/>
            <a:ext cx="31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ut the strongest reason las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4219560" y="2921040"/>
            <a:ext cx="1085760" cy="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20"/>
          <p:cNvSpPr/>
          <p:nvPr/>
        </p:nvSpPr>
        <p:spPr>
          <a:xfrm>
            <a:off x="4229280" y="4900680"/>
            <a:ext cx="1085760" cy="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528480" y="4040280"/>
            <a:ext cx="77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Option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528480" y="2054160"/>
            <a:ext cx="77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Option 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6553080" y="5653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10" descr=""/>
          <p:cNvPicPr/>
          <p:nvPr/>
        </p:nvPicPr>
        <p:blipFill>
          <a:blip r:embed="rId2"/>
          <a:stretch/>
        </p:blipFill>
        <p:spPr>
          <a:xfrm>
            <a:off x="8413920" y="311796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 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Practice and Apply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533520" y="137016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hoose an issue for your persuasive essay, state your position, and gather and organize reasons and evidence to support your opinio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58720" y="141444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6553080" y="5653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98116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The End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5867280" y="6019920"/>
            <a:ext cx="1719360" cy="838080"/>
          </a:xfrm>
          <a:custGeom>
            <a:avLst/>
            <a:gdLst>
              <a:gd name="textAreaLeft" fmla="*/ 54000 w 1719360"/>
              <a:gd name="textAreaRight" fmla="*/ 1665360 w 1719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4304" h="21600">
                <a:moveTo>
                  <a:pt x="0" y="0"/>
                </a:moveTo>
                <a:lnTo>
                  <a:pt x="44304" y="0"/>
                </a:lnTo>
                <a:lnTo>
                  <a:pt x="44304" y="21600"/>
                </a:lnTo>
                <a:lnTo>
                  <a:pt x="0" y="21600"/>
                </a:lnTo>
                <a:close/>
              </a:path>
              <a:path fill="lightenLess" w="44304" h="21600">
                <a:moveTo>
                  <a:pt x="0" y="0"/>
                </a:moveTo>
                <a:lnTo>
                  <a:pt x="44304" y="0"/>
                </a:lnTo>
                <a:lnTo>
                  <a:pt x="42904" y="1400"/>
                </a:lnTo>
                <a:lnTo>
                  <a:pt x="1400" y="1400"/>
                </a:lnTo>
                <a:close/>
              </a:path>
              <a:path fill="darken" w="44304" h="21600">
                <a:moveTo>
                  <a:pt x="44304" y="0"/>
                </a:moveTo>
                <a:lnTo>
                  <a:pt x="44304" y="21600"/>
                </a:lnTo>
                <a:lnTo>
                  <a:pt x="42904" y="20200"/>
                </a:lnTo>
                <a:lnTo>
                  <a:pt x="42904" y="1400"/>
                </a:lnTo>
                <a:close/>
              </a:path>
              <a:path fill="darkenLess" w="44304" h="21600">
                <a:moveTo>
                  <a:pt x="44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04" y="20200"/>
                </a:lnTo>
                <a:close/>
              </a:path>
              <a:path fill="lighten" w="44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528480" y="1370160"/>
            <a:ext cx="80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unterarguments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an also be called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unterclaim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8"/>
          <p:cNvSpPr/>
          <p:nvPr/>
        </p:nvSpPr>
        <p:spPr>
          <a:xfrm>
            <a:off x="5867280" y="6019920"/>
            <a:ext cx="2438640" cy="838080"/>
          </a:xfrm>
          <a:custGeom>
            <a:avLst/>
            <a:gdLst>
              <a:gd name="textAreaLeft" fmla="*/ 54000 w 2438640"/>
              <a:gd name="textAreaRight" fmla="*/ 2384640 w 2438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2834" h="21600">
                <a:moveTo>
                  <a:pt x="0" y="0"/>
                </a:moveTo>
                <a:lnTo>
                  <a:pt x="62834" y="0"/>
                </a:lnTo>
                <a:lnTo>
                  <a:pt x="62834" y="21600"/>
                </a:lnTo>
                <a:lnTo>
                  <a:pt x="0" y="21600"/>
                </a:lnTo>
                <a:close/>
              </a:path>
              <a:path fill="lightenLess" w="62834" h="21600">
                <a:moveTo>
                  <a:pt x="0" y="0"/>
                </a:moveTo>
                <a:lnTo>
                  <a:pt x="62834" y="0"/>
                </a:lnTo>
                <a:lnTo>
                  <a:pt x="61434" y="1400"/>
                </a:lnTo>
                <a:lnTo>
                  <a:pt x="1400" y="1400"/>
                </a:lnTo>
                <a:close/>
              </a:path>
              <a:path fill="darken" w="62834" h="21600">
                <a:moveTo>
                  <a:pt x="62834" y="0"/>
                </a:moveTo>
                <a:lnTo>
                  <a:pt x="62834" y="21600"/>
                </a:lnTo>
                <a:lnTo>
                  <a:pt x="61434" y="20200"/>
                </a:lnTo>
                <a:lnTo>
                  <a:pt x="61434" y="1400"/>
                </a:lnTo>
                <a:close/>
              </a:path>
              <a:path fill="darkenLess" w="62834" h="21600">
                <a:moveTo>
                  <a:pt x="62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34" y="20200"/>
                </a:lnTo>
                <a:close/>
              </a:path>
              <a:path fill="lighten" w="62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Consider Your Purpose and Audience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528480" y="1370160"/>
            <a:ext cx="80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Ethical appeal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rely on commonly accepted beliefs or values. For example, honesty and fairness are values that most people accept as worthwhile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28480" y="3019320"/>
            <a:ext cx="779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riters often use ethical appeals to establish that they are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redible,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or trustworth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2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9"/>
          <p:cNvSpPr/>
          <p:nvPr/>
        </p:nvSpPr>
        <p:spPr>
          <a:xfrm>
            <a:off x="5867280" y="6019920"/>
            <a:ext cx="2438640" cy="838080"/>
          </a:xfrm>
          <a:custGeom>
            <a:avLst/>
            <a:gdLst>
              <a:gd name="textAreaLeft" fmla="*/ 54000 w 2438640"/>
              <a:gd name="textAreaRight" fmla="*/ 2384640 w 2438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2834" h="21600">
                <a:moveTo>
                  <a:pt x="0" y="0"/>
                </a:moveTo>
                <a:lnTo>
                  <a:pt x="62834" y="0"/>
                </a:lnTo>
                <a:lnTo>
                  <a:pt x="62834" y="21600"/>
                </a:lnTo>
                <a:lnTo>
                  <a:pt x="0" y="21600"/>
                </a:lnTo>
                <a:close/>
              </a:path>
              <a:path fill="lightenLess" w="62834" h="21600">
                <a:moveTo>
                  <a:pt x="0" y="0"/>
                </a:moveTo>
                <a:lnTo>
                  <a:pt x="62834" y="0"/>
                </a:lnTo>
                <a:lnTo>
                  <a:pt x="61434" y="1400"/>
                </a:lnTo>
                <a:lnTo>
                  <a:pt x="1400" y="1400"/>
                </a:lnTo>
                <a:close/>
              </a:path>
              <a:path fill="darken" w="62834" h="21600">
                <a:moveTo>
                  <a:pt x="62834" y="0"/>
                </a:moveTo>
                <a:lnTo>
                  <a:pt x="62834" y="21600"/>
                </a:lnTo>
                <a:lnTo>
                  <a:pt x="61434" y="20200"/>
                </a:lnTo>
                <a:lnTo>
                  <a:pt x="61434" y="1400"/>
                </a:lnTo>
                <a:close/>
              </a:path>
              <a:path fill="darkenLess" w="62834" h="21600">
                <a:moveTo>
                  <a:pt x="62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34" y="20200"/>
                </a:lnTo>
                <a:close/>
              </a:path>
              <a:path fill="lighten" w="62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Support Your Opinio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tretch/>
        </p:blipFill>
        <p:spPr>
          <a:xfrm>
            <a:off x="2600280" y="2735280"/>
            <a:ext cx="13356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528480" y="1370160"/>
            <a:ext cx="80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Your teacher may want you to include more logical appeals than emotional or ethical appeals in your essa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533520" y="1434960"/>
            <a:ext cx="590400" cy="339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7"/>
          <p:cNvSpPr/>
          <p:nvPr/>
        </p:nvSpPr>
        <p:spPr>
          <a:xfrm>
            <a:off x="5867280" y="6019920"/>
            <a:ext cx="2438640" cy="838080"/>
          </a:xfrm>
          <a:custGeom>
            <a:avLst/>
            <a:gdLst>
              <a:gd name="textAreaLeft" fmla="*/ 54000 w 2438640"/>
              <a:gd name="textAreaRight" fmla="*/ 2384640 w 2438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2834" h="21600">
                <a:moveTo>
                  <a:pt x="0" y="0"/>
                </a:moveTo>
                <a:lnTo>
                  <a:pt x="62834" y="0"/>
                </a:lnTo>
                <a:lnTo>
                  <a:pt x="62834" y="21600"/>
                </a:lnTo>
                <a:lnTo>
                  <a:pt x="0" y="21600"/>
                </a:lnTo>
                <a:close/>
              </a:path>
              <a:path fill="lightenLess" w="62834" h="21600">
                <a:moveTo>
                  <a:pt x="0" y="0"/>
                </a:moveTo>
                <a:lnTo>
                  <a:pt x="62834" y="0"/>
                </a:lnTo>
                <a:lnTo>
                  <a:pt x="61434" y="1400"/>
                </a:lnTo>
                <a:lnTo>
                  <a:pt x="1400" y="1400"/>
                </a:lnTo>
                <a:close/>
              </a:path>
              <a:path fill="darken" w="62834" h="21600">
                <a:moveTo>
                  <a:pt x="62834" y="0"/>
                </a:moveTo>
                <a:lnTo>
                  <a:pt x="62834" y="21600"/>
                </a:lnTo>
                <a:lnTo>
                  <a:pt x="61434" y="20200"/>
                </a:lnTo>
                <a:lnTo>
                  <a:pt x="61434" y="1400"/>
                </a:lnTo>
                <a:close/>
              </a:path>
              <a:path fill="darkenLess" w="62834" h="21600">
                <a:moveTo>
                  <a:pt x="62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34" y="20200"/>
                </a:lnTo>
                <a:close/>
              </a:path>
              <a:path fill="lighten" w="62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Support Your Opinio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528480" y="1370160"/>
            <a:ext cx="808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Gathering Evidenc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rovide at least two pieces of evidence for each of your reason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30280" y="4100400"/>
            <a:ext cx="366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terview local experts on your issu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20" descr=""/>
          <p:cNvPicPr/>
          <p:nvPr/>
        </p:nvPicPr>
        <p:blipFill>
          <a:blip r:embed="rId2"/>
          <a:stretch/>
        </p:blipFill>
        <p:spPr>
          <a:xfrm>
            <a:off x="2895480" y="251928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2" descr=""/>
          <p:cNvPicPr/>
          <p:nvPr/>
        </p:nvPicPr>
        <p:blipFill>
          <a:blip r:embed="rId3"/>
          <a:stretch/>
        </p:blipFill>
        <p:spPr>
          <a:xfrm>
            <a:off x="4194000" y="38019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3" descr="107089.JPG"/>
          <p:cNvPicPr/>
          <p:nvPr/>
        </p:nvPicPr>
        <p:blipFill>
          <a:blip r:embed="rId4"/>
          <a:srcRect l="0" t="17520" r="0" b="15846"/>
          <a:stretch/>
        </p:blipFill>
        <p:spPr>
          <a:xfrm>
            <a:off x="4724280" y="2522520"/>
            <a:ext cx="1683000" cy="1120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5" descr="AA053436.JPG"/>
          <p:cNvPicPr/>
          <p:nvPr/>
        </p:nvPicPr>
        <p:blipFill>
          <a:blip r:embed="rId5"/>
          <a:srcRect l="0" t="17520" r="0" b="14173"/>
          <a:stretch/>
        </p:blipFill>
        <p:spPr>
          <a:xfrm>
            <a:off x="4724280" y="4724280"/>
            <a:ext cx="1683000" cy="1150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5" descr=""/>
          <p:cNvPicPr/>
          <p:nvPr/>
        </p:nvPicPr>
        <p:blipFill>
          <a:blip r:embed="rId6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Support Your Opinio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9" name="AutoShape 49"/>
          <p:cNvSpPr/>
          <p:nvPr/>
        </p:nvSpPr>
        <p:spPr>
          <a:xfrm>
            <a:off x="5867280" y="6019920"/>
            <a:ext cx="2438640" cy="838080"/>
          </a:xfrm>
          <a:custGeom>
            <a:avLst/>
            <a:gdLst>
              <a:gd name="textAreaLeft" fmla="*/ 54000 w 2438640"/>
              <a:gd name="textAreaRight" fmla="*/ 2384640 w 2438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2834" h="21600">
                <a:moveTo>
                  <a:pt x="0" y="0"/>
                </a:moveTo>
                <a:lnTo>
                  <a:pt x="62834" y="0"/>
                </a:lnTo>
                <a:lnTo>
                  <a:pt x="62834" y="21600"/>
                </a:lnTo>
                <a:lnTo>
                  <a:pt x="0" y="21600"/>
                </a:lnTo>
                <a:close/>
              </a:path>
              <a:path fill="lightenLess" w="62834" h="21600">
                <a:moveTo>
                  <a:pt x="0" y="0"/>
                </a:moveTo>
                <a:lnTo>
                  <a:pt x="62834" y="0"/>
                </a:lnTo>
                <a:lnTo>
                  <a:pt x="61434" y="1400"/>
                </a:lnTo>
                <a:lnTo>
                  <a:pt x="1400" y="1400"/>
                </a:lnTo>
                <a:close/>
              </a:path>
              <a:path fill="darken" w="62834" h="21600">
                <a:moveTo>
                  <a:pt x="62834" y="0"/>
                </a:moveTo>
                <a:lnTo>
                  <a:pt x="62834" y="21600"/>
                </a:lnTo>
                <a:lnTo>
                  <a:pt x="61434" y="20200"/>
                </a:lnTo>
                <a:lnTo>
                  <a:pt x="61434" y="1400"/>
                </a:lnTo>
                <a:close/>
              </a:path>
              <a:path fill="darkenLess" w="62834" h="21600">
                <a:moveTo>
                  <a:pt x="62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34" y="20200"/>
                </a:lnTo>
                <a:close/>
              </a:path>
              <a:path fill="lighten" w="62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50"/>
          <p:cNvSpPr/>
          <p:nvPr/>
        </p:nvSpPr>
        <p:spPr>
          <a:xfrm>
            <a:off x="528480" y="2822400"/>
            <a:ext cx="366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search your issue at the library or on the Interne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51" descr="c04wri006"/>
          <p:cNvPicPr/>
          <p:nvPr/>
        </p:nvPicPr>
        <p:blipFill>
          <a:blip r:embed="rId7"/>
          <a:stretch/>
        </p:blipFill>
        <p:spPr>
          <a:xfrm>
            <a:off x="6068880" y="3198960"/>
            <a:ext cx="2543400" cy="1742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3520" y="13716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ssignment: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Write a persuasive essay on an issue about which you have a strong opinio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33520" y="2530440"/>
            <a:ext cx="8076960" cy="2125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Sometimes the most powerful way to make a difference is to change people’s minds. What issues are important to you? What laws or public practices are you for or against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urn your opinion into action by persuading readers to see things your way.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27840" y="1951200"/>
            <a:ext cx="133560" cy="885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6553080" y="5653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Choose an Issue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528480" y="1370160"/>
            <a:ext cx="80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n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ssu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something about which people have opposing opinions. Choose an issue about which you feel strongly. To find an issue,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28480" y="2655720"/>
            <a:ext cx="51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atch television news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hows for information about current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27"/>
          <p:cNvSpPr/>
          <p:nvPr/>
        </p:nvSpPr>
        <p:spPr>
          <a:xfrm>
            <a:off x="528480" y="3938760"/>
            <a:ext cx="497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brainstorm with classmates about issues that affect your school or communit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Picture 29" descr=""/>
          <p:cNvPicPr/>
          <p:nvPr/>
        </p:nvPicPr>
        <p:blipFill>
          <a:blip r:embed="rId1"/>
          <a:stretch/>
        </p:blipFill>
        <p:spPr>
          <a:xfrm>
            <a:off x="6143760" y="23130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"/>
          <p:cNvPicPr/>
          <p:nvPr/>
        </p:nvPicPr>
        <p:blipFill>
          <a:blip r:embed="rId2"/>
          <a:stretch/>
        </p:blipFill>
        <p:spPr>
          <a:xfrm>
            <a:off x="3419640" y="35989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2"/>
          <p:cNvSpPr/>
          <p:nvPr/>
        </p:nvSpPr>
        <p:spPr>
          <a:xfrm>
            <a:off x="6553080" y="5653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2" descr="c04wri001"/>
          <p:cNvPicPr/>
          <p:nvPr/>
        </p:nvPicPr>
        <p:blipFill>
          <a:blip r:embed="rId3"/>
          <a:stretch/>
        </p:blipFill>
        <p:spPr>
          <a:xfrm>
            <a:off x="6095880" y="2752560"/>
            <a:ext cx="2543400" cy="17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57"/>
          <p:cNvSpPr/>
          <p:nvPr/>
        </p:nvSpPr>
        <p:spPr>
          <a:xfrm>
            <a:off x="2786040" y="3191040"/>
            <a:ext cx="53024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Software for sharing personal files across the internet should remain legal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533520" y="1371600"/>
            <a:ext cx="80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rite a focused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opinion statement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hat names the issue and states your position on i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State Your Positio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70" name="Picture 154" descr=""/>
          <p:cNvPicPr/>
          <p:nvPr/>
        </p:nvPicPr>
        <p:blipFill>
          <a:blip r:embed="rId1"/>
          <a:stretch/>
        </p:blipFill>
        <p:spPr>
          <a:xfrm>
            <a:off x="6924600" y="1962000"/>
            <a:ext cx="133560" cy="889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181"/>
          <p:cNvGrpSpPr/>
          <p:nvPr/>
        </p:nvGrpSpPr>
        <p:grpSpPr>
          <a:xfrm>
            <a:off x="730080" y="3180960"/>
            <a:ext cx="1941480" cy="717480"/>
            <a:chOff x="730080" y="3180960"/>
            <a:chExt cx="1941480" cy="717480"/>
          </a:xfrm>
        </p:grpSpPr>
        <p:sp>
          <p:nvSpPr>
            <p:cNvPr id="72" name="Text Box 144"/>
            <p:cNvSpPr/>
            <p:nvPr/>
          </p:nvSpPr>
          <p:spPr>
            <a:xfrm>
              <a:off x="730080" y="3303720"/>
              <a:ext cx="164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Verdana"/>
                </a:rPr>
                <a:t>Issue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AutoShape 178"/>
            <p:cNvSpPr/>
            <p:nvPr/>
          </p:nvSpPr>
          <p:spPr>
            <a:xfrm rot="10800000">
              <a:off x="2391840" y="3180960"/>
              <a:ext cx="279720" cy="717480"/>
            </a:xfrm>
            <a:custGeom>
              <a:avLst/>
              <a:gdLst>
                <a:gd name="textAreaLeft" fmla="*/ 0 w 279720"/>
                <a:gd name="textAreaRight" fmla="*/ 100800 w 279720"/>
                <a:gd name="textAreaTop" fmla="*/ 18720 h 717480"/>
                <a:gd name="textAreaBottom" fmla="*/ 698760 h 71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743"/>
                  </a:lnTo>
                  <a:cubicBezTo>
                    <a:pt x="10800" y="9643"/>
                    <a:pt x="16200" y="10543"/>
                    <a:pt x="21600" y="10543"/>
                  </a:cubicBezTo>
                  <a:cubicBezTo>
                    <a:pt x="16200" y="10543"/>
                    <a:pt x="10800" y="11443"/>
                    <a:pt x="10800" y="12343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4" name="Group 182"/>
          <p:cNvGrpSpPr/>
          <p:nvPr/>
        </p:nvGrpSpPr>
        <p:grpSpPr>
          <a:xfrm>
            <a:off x="728640" y="3976560"/>
            <a:ext cx="1928520" cy="457200"/>
            <a:chOff x="728640" y="3976560"/>
            <a:chExt cx="1928520" cy="457200"/>
          </a:xfrm>
        </p:grpSpPr>
        <p:sp>
          <p:nvSpPr>
            <p:cNvPr id="75" name="Text Box 146"/>
            <p:cNvSpPr/>
            <p:nvPr/>
          </p:nvSpPr>
          <p:spPr>
            <a:xfrm>
              <a:off x="728640" y="3976560"/>
              <a:ext cx="164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Verdana"/>
                </a:rPr>
                <a:t>Position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AutoShape 179"/>
            <p:cNvSpPr/>
            <p:nvPr/>
          </p:nvSpPr>
          <p:spPr>
            <a:xfrm rot="10800000">
              <a:off x="2388960" y="4022640"/>
              <a:ext cx="268200" cy="355680"/>
            </a:xfrm>
            <a:custGeom>
              <a:avLst/>
              <a:gdLst>
                <a:gd name="textAreaLeft" fmla="*/ 0 w 268200"/>
                <a:gd name="textAreaRight" fmla="*/ 96840 w 268200"/>
                <a:gd name="textAreaTop" fmla="*/ 9000 h 355680"/>
                <a:gd name="textAreaBottom" fmla="*/ 346680 h 3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743"/>
                  </a:lnTo>
                  <a:cubicBezTo>
                    <a:pt x="10800" y="9643"/>
                    <a:pt x="16200" y="10543"/>
                    <a:pt x="21600" y="10543"/>
                  </a:cubicBezTo>
                  <a:cubicBezTo>
                    <a:pt x="16200" y="10543"/>
                    <a:pt x="10800" y="11443"/>
                    <a:pt x="10800" y="12343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" name="Text Box 180"/>
          <p:cNvSpPr/>
          <p:nvPr/>
        </p:nvSpPr>
        <p:spPr>
          <a:xfrm>
            <a:off x="6553080" y="5653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Consider Your Purpose and Audience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28480" y="1370160"/>
            <a:ext cx="808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Purpo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o convince others to share your opinion or to take the action you recommen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42" descr="c04wri002"/>
          <p:cNvPicPr/>
          <p:nvPr/>
        </p:nvPicPr>
        <p:blipFill>
          <a:blip r:embed="rId1"/>
          <a:stretch/>
        </p:blipFill>
        <p:spPr>
          <a:xfrm>
            <a:off x="2533680" y="3276720"/>
            <a:ext cx="3486240" cy="254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Consider Your Purpose and Audience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28480" y="2820960"/>
            <a:ext cx="7785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ink about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biases,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or prejudices, your audience might have. Be prepared to address any objections, or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1" action="ppaction://hlinksldjump"/>
              </a:rPr>
              <a:t>counterarguments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0280" y="1370160"/>
            <a:ext cx="808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udienc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onsider your audience’s concerns and expectation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28" descr=""/>
          <p:cNvPicPr/>
          <p:nvPr/>
        </p:nvPicPr>
        <p:blipFill>
          <a:blip r:embed="rId2"/>
          <a:stretch/>
        </p:blipFill>
        <p:spPr>
          <a:xfrm>
            <a:off x="2822400" y="250812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1"/>
          <p:cNvSpPr/>
          <p:nvPr/>
        </p:nvSpPr>
        <p:spPr>
          <a:xfrm>
            <a:off x="528480" y="4097160"/>
            <a:ext cx="778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rovide an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argument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hat includes solid reasons supported by evidence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32" descr=""/>
          <p:cNvPicPr/>
          <p:nvPr/>
        </p:nvPicPr>
        <p:blipFill>
          <a:blip r:embed="rId3"/>
          <a:stretch/>
        </p:blipFill>
        <p:spPr>
          <a:xfrm>
            <a:off x="7389720" y="377496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3"/>
          <p:cNvSpPr/>
          <p:nvPr/>
        </p:nvSpPr>
        <p:spPr>
          <a:xfrm>
            <a:off x="6553080" y="5653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28480" y="1370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Give strong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reason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o support your opinion statement. Include these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rhetorical devic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Support Your Opinio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7969320" y="1963800"/>
            <a:ext cx="133200" cy="8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533520" y="2478240"/>
          <a:ext cx="8076960" cy="2712960"/>
        </p:xfrm>
        <a:graphic>
          <a:graphicData uri="http://schemas.openxmlformats.org/drawingml/2006/table">
            <a:tbl>
              <a:tblPr/>
              <a:tblGrid>
                <a:gridCol w="3166920"/>
                <a:gridCol w="491004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Rhetorical Device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Logical Appeal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appeal to reason and speak to readers’ common sens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Emotional Appeal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speak to readers’ emotions, such as sympathy, fear, and hop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Ethical Appeal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appeal to readers’ ethics, or moral value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</a:tbl>
          </a:graphicData>
        </a:graphic>
      </p:graphicFrame>
      <p:pic>
        <p:nvPicPr>
          <p:cNvPr id="92" name="Picture 54" descr=""/>
          <p:cNvPicPr/>
          <p:nvPr/>
        </p:nvPicPr>
        <p:blipFill>
          <a:blip r:embed="rId2"/>
          <a:stretch/>
        </p:blipFill>
        <p:spPr>
          <a:xfrm>
            <a:off x="533520" y="5602320"/>
            <a:ext cx="590400" cy="3398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8"/>
          <p:cNvSpPr/>
          <p:nvPr/>
        </p:nvSpPr>
        <p:spPr>
          <a:xfrm>
            <a:off x="533520" y="4495680"/>
            <a:ext cx="25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528480" y="13701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rovide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evidenc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o support your reason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Support Your Opinio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96" name="Picture 13" descr=""/>
          <p:cNvPicPr/>
          <p:nvPr/>
        </p:nvPicPr>
        <p:blipFill>
          <a:blip r:embed="rId1"/>
          <a:stretch/>
        </p:blipFill>
        <p:spPr>
          <a:xfrm>
            <a:off x="7458120" y="1595520"/>
            <a:ext cx="133200" cy="8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533520" y="1922400"/>
          <a:ext cx="8076960" cy="3048120"/>
        </p:xfrm>
        <a:graphic>
          <a:graphicData uri="http://schemas.openxmlformats.org/drawingml/2006/table">
            <a:tbl>
              <a:tblPr/>
              <a:tblGrid>
                <a:gridCol w="2052360"/>
                <a:gridCol w="602460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Kinds of Evidenc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Fac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information that can be proven true; some facts are in the form of </a:t>
                      </a: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statistics,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 or numerical inform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Example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specific instances of an idea or situ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Expert opinio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statements (either </a:t>
                      </a: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quotations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 or </a:t>
                      </a: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paraphrases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) by people who are considered experts on the issu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riting a Persuasive Essay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ewriting: Support Your Opinio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434960"/>
          <a:ext cx="8076960" cy="3048120"/>
        </p:xfrm>
        <a:graphic>
          <a:graphicData uri="http://schemas.openxmlformats.org/drawingml/2006/table">
            <a:tbl>
              <a:tblPr/>
              <a:tblGrid>
                <a:gridCol w="2066760"/>
                <a:gridCol w="601020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Kinds of Evidenc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Analogie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comparisons that show the similarities between two otherwise unrelated facts or idea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7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Case studie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examples from scientific studie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75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Anecdote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brief, personal stories that illustrate a poin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</a:tbl>
          </a:graphicData>
        </a:graphic>
      </p:graphicFrame>
      <p:sp>
        <p:nvSpPr>
          <p:cNvPr id="100" name="Text Box 25"/>
          <p:cNvSpPr/>
          <p:nvPr/>
        </p:nvSpPr>
        <p:spPr>
          <a:xfrm>
            <a:off x="533520" y="56404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Gathering evide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1:43:20Z</dcterms:created>
  <dc:creator>Sandra Wolfgang</dc:creator>
  <dc:description/>
  <dc:language>en-US</dc:language>
  <cp:lastModifiedBy>Dan Olsen</cp:lastModifiedBy>
  <cp:lastPrinted>2004-12-14T19:41:04Z</cp:lastPrinted>
  <dcterms:modified xsi:type="dcterms:W3CDTF">2012-01-11T16:10:00Z</dcterms:modified>
  <cp:revision>633</cp:revision>
  <dc:subject/>
  <dc:title>Grade 9 WW Coll. 5</dc:title>
</cp:coreProperties>
</file>